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16F-6055-4408-AE22-836922D6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E09-3860-4ED8-B91B-68E2BB9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583-7BDB-42B0-9948-B6950534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707-F112-47A1-B758-728E0755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5E3-6907-43F3-9351-4439184F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796-DF2E-40A3-A02D-31EF20A0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9E2-B04A-49D7-A1D6-26C28926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E6B-632E-4E5C-95EF-FAA6029C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DBF-F765-4286-AEDF-21DA1F76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8D3-932C-4F94-9135-31B3C97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C6B-F001-44ED-AE55-8B695F57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2D1-C042-4DB7-AC1A-DAC2BF53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AFE-11B8-4E49-848A-9F2A115C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e llamo _________  Clase 702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a fecha es el 9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t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review family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ropa llev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Hoy llevo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Arial"/>
              </a:rPr>
              <a:t>pantalones jeans, una camiseta morada, un suéter negro y unos zapatos tenis</a:t>
            </a: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ponde en oraciones compl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compras los materiales escol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Hablas con la empleada en la papeler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é color de pluma compr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ánto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pa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pa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s miemb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atlantablackstar.com/wp-content/uploads/2013/05/will-smith-family.jpg"/>
          <p:cNvPicPr/>
          <p:nvPr/>
        </p:nvPicPr>
        <p:blipFill>
          <a:blip r:embed="rId1"/>
          <a:stretch/>
        </p:blipFill>
        <p:spPr>
          <a:xfrm>
            <a:off x="4530600" y="923760"/>
            <a:ext cx="438480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2"/>
          <p:cNvSpPr/>
          <p:nvPr/>
        </p:nvSpPr>
        <p:spPr>
          <a:xfrm>
            <a:off x="1143000" y="20224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1523880" y="38098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2"/>
          <p:cNvSpPr/>
          <p:nvPr/>
        </p:nvSpPr>
        <p:spPr>
          <a:xfrm>
            <a:off x="1676520" y="555768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encrypted-tbn1.gstatic.com/images?q=tbn:ANd9GcSOX3KFw13RLFCTTfAjvUhUApBIPI30xLrZ9hHolvMrmLgkL1dC"/>
          <p:cNvPicPr/>
          <p:nvPr/>
        </p:nvPicPr>
        <p:blipFill>
          <a:blip r:embed="rId1"/>
          <a:stretch/>
        </p:blipFill>
        <p:spPr>
          <a:xfrm>
            <a:off x="571680" y="0"/>
            <a:ext cx="210816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s://encrypted-tbn1.gstatic.com/images?q=tbn:ANd9GcSylOVBrYXEzBaPNslg5hU4cm8aGi7t9g6__v3HJs0cEkpTcDwU"/>
          <p:cNvPicPr/>
          <p:nvPr/>
        </p:nvPicPr>
        <p:blipFill>
          <a:blip r:embed="rId2"/>
          <a:stretch/>
        </p:blipFill>
        <p:spPr>
          <a:xfrm>
            <a:off x="6248520" y="0"/>
            <a:ext cx="2073240" cy="30481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914400" y="3800520"/>
            <a:ext cx="1628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4"/>
          <a:stretch/>
        </p:blipFill>
        <p:spPr>
          <a:xfrm>
            <a:off x="6477120" y="3726000"/>
            <a:ext cx="2522520" cy="2522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7696080" y="3657600"/>
            <a:ext cx="13384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3206880" y="151776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09480" y="3048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301080" y="297180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83808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000" spc="-1" strike="noStrike">
                <a:solidFill>
                  <a:srgbClr val="0033cc"/>
                </a:solidFill>
                <a:latin typeface="Verdana"/>
              </a:rPr>
              <a:t>el hi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6400800" y="6202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a 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200400" y="3611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Los h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276720" y="4602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352680" y="55926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her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3124080" y="20574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2971800" y="41148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parents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2971800" y="51004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brother/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895480" y="60958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b050"/>
                </a:solidFill>
                <a:latin typeface="Tahoma"/>
              </a:rPr>
              <a:t>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 famili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mith-Pinke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ros pa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b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b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em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2743200" y="160020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2666880" y="2209680"/>
            <a:ext cx="2667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5181480" y="1828800"/>
            <a:ext cx="2438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abu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6400800" y="2286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981080" y="277344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133720" y="335268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3048120" y="300204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105520" y="304812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ncles &amp; a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2514600" y="3916440"/>
            <a:ext cx="2438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2590920" y="4525920"/>
            <a:ext cx="3200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5181480" y="422100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pr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7543800" y="4338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ou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3276720" y="510552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t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2362320" y="5638680"/>
            <a:ext cx="32004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2438280" y="6248520"/>
            <a:ext cx="3505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female grand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5334120" y="5821200"/>
            <a:ext cx="2438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Tahoma"/>
              </a:rPr>
              <a:t>Los ni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7467480" y="5867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grand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paso de Vocabular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95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Andres’ family tree with the correct title of the members. (follow the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rbol, ejemplo"/>
          <p:cNvPicPr/>
          <p:nvPr/>
        </p:nvPicPr>
        <p:blipFill>
          <a:blip r:embed="rId1"/>
          <a:stretch/>
        </p:blipFill>
        <p:spPr>
          <a:xfrm>
            <a:off x="2286000" y="1905120"/>
            <a:ext cx="5181480" cy="479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119680" y="5943600"/>
            <a:ext cx="13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ij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er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n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76720" y="28954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657600" y="289548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bue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724280" y="29718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3200400" y="4419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342900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350532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58672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6095880" y="47242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648320" y="4495680"/>
            <a:ext cx="1218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962520" y="5867280"/>
            <a:ext cx="144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981080" y="472428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943600" y="45720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3276720" y="419112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5486400" y="603396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7010280" y="553068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5029200" y="4495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4267080" y="5867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her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2286000" y="4724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Pad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7315200" y="5562720"/>
            <a:ext cx="1066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502920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Ab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T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5943600" y="6019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Pr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3581280" y="4191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8:03:02Z</dcterms:created>
  <dc:creator>Helen Zumaeta</dc:creator>
  <dc:description/>
  <dc:language>en-US</dc:language>
  <cp:lastModifiedBy>Helen Zumaeta</cp:lastModifiedBy>
  <cp:lastPrinted>2014-09-30T17:37:05Z</cp:lastPrinted>
  <dcterms:modified xsi:type="dcterms:W3CDTF">2015-10-13T02:30:33Z</dcterms:modified>
  <cp:revision>24</cp:revision>
  <dc:subject/>
  <dc:title>Slide 1</dc:title>
</cp:coreProperties>
</file>